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6.gif" ContentType="image/gif"/>
  <Override PartName="/ppt/media/image9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3.gif" ContentType="image/gif"/>
  <Override PartName="/ppt/media/image2.jpeg" ContentType="image/jpeg"/>
  <Override PartName="/ppt/media/image10.png" ContentType="image/png"/>
  <Override PartName="/ppt/media/applause.wav" ContentType="audio/x-wav"/>
  <Override PartName="/ppt/media/image14.png" ContentType="image/png"/>
  <Override PartName="/ppt/media/image28.png" ContentType="image/png"/>
  <Override PartName="/ppt/media/image16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AAE-938B-4ACF-9899-5CD8D594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FB0-28BA-4BD5-A13C-77FB5DAF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A90-8702-4D48-84CD-17F617FF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528-B150-436A-8672-073C3650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F7E-609A-46C3-B8C0-F2846737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324-27EA-491D-997C-8F72DC37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6B0-0760-4DAF-B5BA-CC251383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B3A-63CF-4584-94CD-467C4B4D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E23-F266-4493-9B6F-B19647E5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EA7-303F-4E9A-AF92-591539F8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DF8-1C67-4EC5-8460-43E5C446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B46-E0F8-4B6A-BCD3-67A5570C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F8AB-CBB3-4B78-B979-74699E6BA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hyperlink" Target="file:///usr/lib/libreoffice/share/gallery/sounds/applause.wav" TargetMode="External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Блок-схема: узел 12"/>
          <p:cNvSpPr/>
          <p:nvPr/>
        </p:nvSpPr>
        <p:spPr>
          <a:xfrm>
            <a:off x="7238880" y="1143000"/>
            <a:ext cx="152640" cy="152280"/>
          </a:xfrm>
          <a:prstGeom prst="flowChartConnector">
            <a:avLst/>
          </a:prstGeom>
          <a:solidFill>
            <a:srgbClr val="66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Блок-схема: узел 13"/>
          <p:cNvSpPr/>
          <p:nvPr/>
        </p:nvSpPr>
        <p:spPr>
          <a:xfrm>
            <a:off x="7010280" y="1143000"/>
            <a:ext cx="152640" cy="152280"/>
          </a:xfrm>
          <a:prstGeom prst="flowChartConnector">
            <a:avLst/>
          </a:prstGeom>
          <a:solidFill>
            <a:srgbClr val="66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C:\мама\Мои рисунки\аниме алфавит, книги,шк.принадлежности\book37.gif"/>
          <p:cNvPicPr/>
          <p:nvPr/>
        </p:nvPicPr>
        <p:blipFill>
          <a:blip r:embed="rId2"/>
          <a:stretch/>
        </p:blipFill>
        <p:spPr>
          <a:xfrm>
            <a:off x="4267080" y="3962520"/>
            <a:ext cx="154008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8"/>
          <p:cNvSpPr/>
          <p:nvPr/>
        </p:nvSpPr>
        <p:spPr>
          <a:xfrm>
            <a:off x="1280880" y="2362320"/>
            <a:ext cx="75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Comic Sans MS"/>
              </a:rPr>
              <a:t>по математик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19" descr=""/>
          <p:cNvPicPr/>
          <p:nvPr/>
        </p:nvPicPr>
        <p:blipFill>
          <a:blip r:embed="rId3"/>
          <a:stretch/>
        </p:blipFill>
        <p:spPr>
          <a:xfrm>
            <a:off x="3273480" y="5479920"/>
            <a:ext cx="309096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C:\мама\Мои рисунки\люди и профессии анимации\baby18.gif"/>
          <p:cNvPicPr/>
          <p:nvPr/>
        </p:nvPicPr>
        <p:blipFill>
          <a:blip r:embed="rId4"/>
          <a:stretch/>
        </p:blipFill>
        <p:spPr>
          <a:xfrm flipH="1">
            <a:off x="6705720" y="3657600"/>
            <a:ext cx="140328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мама\Мои рисунки\люди и профессии анимации\baby20.gif"/>
          <p:cNvPicPr/>
          <p:nvPr/>
        </p:nvPicPr>
        <p:blipFill>
          <a:blip r:embed="rId5"/>
          <a:stretch/>
        </p:blipFill>
        <p:spPr>
          <a:xfrm flipH="1">
            <a:off x="1219320" y="3505320"/>
            <a:ext cx="1676160" cy="24890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7"/>
          <p:cNvSpPr/>
          <p:nvPr/>
        </p:nvSpPr>
        <p:spPr>
          <a:xfrm>
            <a:off x="2133720" y="30492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Arial Black"/>
              </a:rPr>
              <a:t>Устный сч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Прямоугольник 2"/>
          <p:cNvGrpSpPr/>
          <p:nvPr/>
        </p:nvGrpSpPr>
        <p:grpSpPr>
          <a:xfrm>
            <a:off x="853920" y="109440"/>
            <a:ext cx="8052120" cy="3730680"/>
            <a:chOff x="853920" y="109440"/>
            <a:chExt cx="8052120" cy="3730680"/>
          </a:xfrm>
        </p:grpSpPr>
        <p:pic>
          <p:nvPicPr>
            <p:cNvPr id="15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853920" y="109440"/>
              <a:ext cx="8052120" cy="37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066680" y="228600"/>
              <a:ext cx="7620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После того, как было израсходовано </a:t>
              </a: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10 литров 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бензина, в баке автомобиля осталось </a:t>
              </a: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30 литров 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бензина. Сколько литров бензина было в баке машины первоначально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Выбери действие,  которое   отвечает на вопрос задач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Прямоугольник 7"/>
          <p:cNvSpPr/>
          <p:nvPr/>
        </p:nvSpPr>
        <p:spPr>
          <a:xfrm>
            <a:off x="2976480" y="4343400"/>
            <a:ext cx="1506600" cy="76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en-US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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5036040" y="4343400"/>
            <a:ext cx="1621080" cy="76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+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9"/>
          <p:cNvSpPr/>
          <p:nvPr/>
        </p:nvSpPr>
        <p:spPr>
          <a:xfrm>
            <a:off x="1004400" y="4343400"/>
            <a:ext cx="1488240" cy="76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0"/>
          <p:cNvSpPr/>
          <p:nvPr/>
        </p:nvSpPr>
        <p:spPr>
          <a:xfrm>
            <a:off x="7168680" y="4343400"/>
            <a:ext cx="1488240" cy="76428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: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правляющая кнопка: сведения 11">
            <a:hlinkClick r:id="rId3"/>
          </p:cNvPr>
          <p:cNvSpPr/>
          <p:nvPr/>
        </p:nvSpPr>
        <p:spPr>
          <a:xfrm>
            <a:off x="5562720" y="5486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Управляющая кнопка: сведения 12">
            <a:hlinkClick r:id="rId4"/>
          </p:cNvPr>
          <p:cNvSpPr/>
          <p:nvPr/>
        </p:nvSpPr>
        <p:spPr>
          <a:xfrm>
            <a:off x="7696080" y="54864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13" h="21600">
                <a:moveTo>
                  <a:pt x="1080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13" h="21600">
                <a:moveTo>
                  <a:pt x="8230" y="8224"/>
                </a:moveTo>
                <a:lnTo>
                  <a:pt x="12095" y="8224"/>
                </a:lnTo>
                <a:lnTo>
                  <a:pt x="12095" y="15221"/>
                </a:lnTo>
                <a:lnTo>
                  <a:pt x="13383" y="15221"/>
                </a:lnTo>
                <a:lnTo>
                  <a:pt x="13383" y="16144"/>
                </a:lnTo>
                <a:lnTo>
                  <a:pt x="8230" y="16144"/>
                </a:lnTo>
                <a:lnTo>
                  <a:pt x="8230" y="15221"/>
                </a:lnTo>
                <a:lnTo>
                  <a:pt x="9518" y="15221"/>
                </a:lnTo>
                <a:lnTo>
                  <a:pt x="9518" y="9129"/>
                </a:lnTo>
                <a:lnTo>
                  <a:pt x="8230" y="9129"/>
                </a:lnTo>
                <a:close/>
              </a:path>
            </a:pathLst>
          </a:cu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Управляющая кнопка: сведения 13">
            <a:hlinkClick r:id="rId5"/>
          </p:cNvPr>
          <p:cNvSpPr/>
          <p:nvPr/>
        </p:nvSpPr>
        <p:spPr>
          <a:xfrm>
            <a:off x="3429000" y="5486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Управляющая кнопка: сведения 14">
            <a:hlinkClick r:id="rId6"/>
          </p:cNvPr>
          <p:cNvSpPr/>
          <p:nvPr/>
        </p:nvSpPr>
        <p:spPr>
          <a:xfrm>
            <a:off x="1523880" y="54864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13" h="21600">
                <a:moveTo>
                  <a:pt x="1080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13" h="21600">
                <a:moveTo>
                  <a:pt x="8230" y="8224"/>
                </a:moveTo>
                <a:lnTo>
                  <a:pt x="12095" y="8224"/>
                </a:lnTo>
                <a:lnTo>
                  <a:pt x="12095" y="15221"/>
                </a:lnTo>
                <a:lnTo>
                  <a:pt x="13383" y="15221"/>
                </a:lnTo>
                <a:lnTo>
                  <a:pt x="13383" y="16144"/>
                </a:lnTo>
                <a:lnTo>
                  <a:pt x="8230" y="16144"/>
                </a:lnTo>
                <a:lnTo>
                  <a:pt x="8230" y="15221"/>
                </a:lnTo>
                <a:lnTo>
                  <a:pt x="9518" y="15221"/>
                </a:lnTo>
                <a:lnTo>
                  <a:pt x="9518" y="9129"/>
                </a:lnTo>
                <a:lnTo>
                  <a:pt x="8230" y="9129"/>
                </a:lnTo>
                <a:close/>
              </a:path>
            </a:pathLst>
          </a:cu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447920" y="-44640"/>
            <a:ext cx="7086600" cy="28371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ычисли устно, выбери правильный 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00 + ( 100 – 60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317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TextBox 4"/>
          <p:cNvGrpSpPr/>
          <p:nvPr/>
        </p:nvGrpSpPr>
        <p:grpSpPr>
          <a:xfrm>
            <a:off x="3657600" y="2309760"/>
            <a:ext cx="1981080" cy="1201680"/>
            <a:chOff x="3657600" y="2309760"/>
            <a:chExt cx="1981080" cy="1201680"/>
          </a:xfrm>
        </p:grpSpPr>
        <p:pic>
          <p:nvPicPr>
            <p:cNvPr id="168" name="TextBox 4" descr=""/>
            <p:cNvPicPr/>
            <p:nvPr/>
          </p:nvPicPr>
          <p:blipFill>
            <a:blip r:embed="rId2"/>
            <a:stretch/>
          </p:blipFill>
          <p:spPr>
            <a:xfrm>
              <a:off x="3657600" y="2309760"/>
              <a:ext cx="19810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045680" y="2514600"/>
              <a:ext cx="120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0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TextBox 5"/>
          <p:cNvGrpSpPr/>
          <p:nvPr/>
        </p:nvGrpSpPr>
        <p:grpSpPr>
          <a:xfrm>
            <a:off x="3657600" y="3376440"/>
            <a:ext cx="1981080" cy="1202040"/>
            <a:chOff x="3657600" y="3376440"/>
            <a:chExt cx="1981080" cy="1202040"/>
          </a:xfrm>
        </p:grpSpPr>
        <p:pic>
          <p:nvPicPr>
            <p:cNvPr id="171" name="TextBox 5" descr=""/>
            <p:cNvPicPr/>
            <p:nvPr/>
          </p:nvPicPr>
          <p:blipFill>
            <a:blip r:embed="rId3"/>
            <a:stretch/>
          </p:blipFill>
          <p:spPr>
            <a:xfrm>
              <a:off x="3657600" y="3376440"/>
              <a:ext cx="1981080" cy="12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045680" y="3581280"/>
              <a:ext cx="120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80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TextBox 6"/>
          <p:cNvGrpSpPr/>
          <p:nvPr/>
        </p:nvGrpSpPr>
        <p:grpSpPr>
          <a:xfrm>
            <a:off x="3657600" y="4443480"/>
            <a:ext cx="1981080" cy="1201680"/>
            <a:chOff x="3657600" y="4443480"/>
            <a:chExt cx="1981080" cy="1201680"/>
          </a:xfrm>
        </p:grpSpPr>
        <p:pic>
          <p:nvPicPr>
            <p:cNvPr id="174" name="TextBox 6" descr=""/>
            <p:cNvPicPr/>
            <p:nvPr/>
          </p:nvPicPr>
          <p:blipFill>
            <a:blip r:embed="rId4"/>
            <a:stretch/>
          </p:blipFill>
          <p:spPr>
            <a:xfrm>
              <a:off x="3657600" y="4443480"/>
              <a:ext cx="19810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045680" y="4648320"/>
              <a:ext cx="120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40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TextBox 7"/>
          <p:cNvGrpSpPr/>
          <p:nvPr/>
        </p:nvGrpSpPr>
        <p:grpSpPr>
          <a:xfrm>
            <a:off x="3657600" y="5510160"/>
            <a:ext cx="1981080" cy="1201680"/>
            <a:chOff x="3657600" y="5510160"/>
            <a:chExt cx="1981080" cy="1201680"/>
          </a:xfrm>
        </p:grpSpPr>
        <p:pic>
          <p:nvPicPr>
            <p:cNvPr id="177" name="TextBox 7" descr=""/>
            <p:cNvPicPr/>
            <p:nvPr/>
          </p:nvPicPr>
          <p:blipFill>
            <a:blip r:embed="rId5"/>
            <a:stretch/>
          </p:blipFill>
          <p:spPr>
            <a:xfrm>
              <a:off x="3657600" y="5510160"/>
              <a:ext cx="19810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045680" y="5715000"/>
              <a:ext cx="120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60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Управляющая кнопка: сведения 8">
            <a:hlinkClick r:id="rId6"/>
          </p:cNvPr>
          <p:cNvSpPr/>
          <p:nvPr/>
        </p:nvSpPr>
        <p:spPr>
          <a:xfrm>
            <a:off x="5638680" y="2819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13" h="21600">
                <a:moveTo>
                  <a:pt x="1080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13" h="21600">
                <a:moveTo>
                  <a:pt x="8230" y="8224"/>
                </a:moveTo>
                <a:lnTo>
                  <a:pt x="12095" y="8224"/>
                </a:lnTo>
                <a:lnTo>
                  <a:pt x="12095" y="15221"/>
                </a:lnTo>
                <a:lnTo>
                  <a:pt x="13383" y="15221"/>
                </a:lnTo>
                <a:lnTo>
                  <a:pt x="13383" y="16144"/>
                </a:lnTo>
                <a:lnTo>
                  <a:pt x="8230" y="16144"/>
                </a:lnTo>
                <a:lnTo>
                  <a:pt x="8230" y="15221"/>
                </a:lnTo>
                <a:lnTo>
                  <a:pt x="9518" y="15221"/>
                </a:lnTo>
                <a:lnTo>
                  <a:pt x="9518" y="9129"/>
                </a:lnTo>
                <a:lnTo>
                  <a:pt x="8230" y="912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Управляющая кнопка: сведения 9">
            <a:hlinkClick r:id="rId7"/>
          </p:cNvPr>
          <p:cNvSpPr/>
          <p:nvPr/>
        </p:nvSpPr>
        <p:spPr>
          <a:xfrm>
            <a:off x="5715000" y="3886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Управляющая кнопка: сведения 10">
            <a:hlinkClick r:id="rId8"/>
          </p:cNvPr>
          <p:cNvSpPr/>
          <p:nvPr/>
        </p:nvSpPr>
        <p:spPr>
          <a:xfrm>
            <a:off x="579132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Управляющая кнопка: сведения 11">
            <a:hlinkClick r:id="rId9"/>
          </p:cNvPr>
          <p:cNvSpPr/>
          <p:nvPr/>
        </p:nvSpPr>
        <p:spPr>
          <a:xfrm>
            <a:off x="579132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914400" y="4881240"/>
            <a:ext cx="2057400" cy="12214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36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"/>
          <p:cNvSpPr/>
          <p:nvPr/>
        </p:nvSpPr>
        <p:spPr>
          <a:xfrm>
            <a:off x="914400" y="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ычисли устно, выбери правильный 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4 </a:t>
            </a:r>
            <a:r>
              <a:rPr b="1" lang="en-US" sz="4000" spc="-1" strike="noStrike">
                <a:solidFill>
                  <a:srgbClr val="2d2d8a"/>
                </a:solidFill>
                <a:latin typeface="Wingdings 2"/>
                <a:ea typeface="Wingdings 2"/>
              </a:rPr>
              <a:t></a:t>
            </a:r>
            <a:r>
              <a:rPr b="1" lang="en-US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(9 </a:t>
            </a:r>
            <a:r>
              <a:rPr b="1" lang="en-US" sz="4000" spc="-1" strike="noStrike">
                <a:solidFill>
                  <a:srgbClr val="2d2d8a"/>
                </a:solidFill>
                <a:latin typeface="Wingdings 2"/>
                <a:ea typeface="Wingdings 2"/>
              </a:rPr>
              <a:t></a:t>
            </a:r>
            <a:r>
              <a:rPr b="1" lang="en-US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2)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838080" y="2747520"/>
            <a:ext cx="2133720" cy="12214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56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5257800" y="2747520"/>
            <a:ext cx="2057400" cy="12214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47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5257800" y="4881240"/>
            <a:ext cx="2057400" cy="12214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72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Управляющая кнопка: сведения 7">
            <a:hlinkClick r:id="rId2"/>
          </p:cNvPr>
          <p:cNvSpPr/>
          <p:nvPr/>
        </p:nvSpPr>
        <p:spPr>
          <a:xfrm>
            <a:off x="7772400" y="51814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3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13">
                <a:moveTo>
                  <a:pt x="10800" y="4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13">
                <a:moveTo>
                  <a:pt x="8224" y="8230"/>
                </a:moveTo>
                <a:lnTo>
                  <a:pt x="12088" y="8230"/>
                </a:lnTo>
                <a:lnTo>
                  <a:pt x="12088" y="15228"/>
                </a:lnTo>
                <a:lnTo>
                  <a:pt x="13376" y="15228"/>
                </a:lnTo>
                <a:lnTo>
                  <a:pt x="13376" y="16150"/>
                </a:lnTo>
                <a:lnTo>
                  <a:pt x="8224" y="16150"/>
                </a:lnTo>
                <a:lnTo>
                  <a:pt x="8224" y="15228"/>
                </a:lnTo>
                <a:lnTo>
                  <a:pt x="9512" y="15228"/>
                </a:lnTo>
                <a:lnTo>
                  <a:pt x="9512" y="9135"/>
                </a:lnTo>
                <a:lnTo>
                  <a:pt x="8224" y="9135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Управляющая кнопка: сведения 8">
            <a:hlinkClick r:id="rId3"/>
          </p:cNvPr>
          <p:cNvSpPr/>
          <p:nvPr/>
        </p:nvSpPr>
        <p:spPr>
          <a:xfrm>
            <a:off x="3352680" y="30481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13" h="21600">
                <a:moveTo>
                  <a:pt x="1080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13" h="21600">
                <a:moveTo>
                  <a:pt x="8230" y="8224"/>
                </a:moveTo>
                <a:lnTo>
                  <a:pt x="12095" y="8224"/>
                </a:lnTo>
                <a:lnTo>
                  <a:pt x="12095" y="15221"/>
                </a:lnTo>
                <a:lnTo>
                  <a:pt x="13383" y="15221"/>
                </a:lnTo>
                <a:lnTo>
                  <a:pt x="13383" y="16144"/>
                </a:lnTo>
                <a:lnTo>
                  <a:pt x="8230" y="16144"/>
                </a:lnTo>
                <a:lnTo>
                  <a:pt x="8230" y="15221"/>
                </a:lnTo>
                <a:lnTo>
                  <a:pt x="9518" y="15221"/>
                </a:lnTo>
                <a:lnTo>
                  <a:pt x="9518" y="9129"/>
                </a:lnTo>
                <a:lnTo>
                  <a:pt x="8230" y="912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Управляющая кнопка: сведения 9">
            <a:hlinkClick r:id="rId4"/>
          </p:cNvPr>
          <p:cNvSpPr/>
          <p:nvPr/>
        </p:nvSpPr>
        <p:spPr>
          <a:xfrm>
            <a:off x="3352680" y="51814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Управляющая кнопка: сведения 10">
            <a:hlinkClick r:id="rId5"/>
          </p:cNvPr>
          <p:cNvSpPr/>
          <p:nvPr/>
        </p:nvSpPr>
        <p:spPr>
          <a:xfrm>
            <a:off x="7772400" y="30481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\мама\Мои рисунки\люди и профессии анимации\baby20.gif"/>
          <p:cNvPicPr/>
          <p:nvPr/>
        </p:nvPicPr>
        <p:blipFill>
          <a:blip r:embed="rId2"/>
          <a:stretch/>
        </p:blipFill>
        <p:spPr>
          <a:xfrm>
            <a:off x="4648320" y="2286000"/>
            <a:ext cx="1466640" cy="208296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 2" descr=""/>
          <p:cNvPicPr/>
          <p:nvPr/>
        </p:nvPicPr>
        <p:blipFill>
          <a:blip r:embed="rId3"/>
          <a:stretch/>
        </p:blipFill>
        <p:spPr>
          <a:xfrm>
            <a:off x="2889360" y="755640"/>
            <a:ext cx="3975120" cy="12128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"/>
          <p:cNvSpPr/>
          <p:nvPr/>
        </p:nvSpPr>
        <p:spPr>
          <a:xfrm>
            <a:off x="2141640" y="2971800"/>
            <a:ext cx="123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Comic Sans MS"/>
              </a:rPr>
              <a:t>з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TextBox 4" descr=""/>
          <p:cNvPicPr/>
          <p:nvPr/>
        </p:nvPicPr>
        <p:blipFill>
          <a:blip r:embed="rId4"/>
          <a:stretch/>
        </p:blipFill>
        <p:spPr>
          <a:xfrm>
            <a:off x="3121200" y="5022720"/>
            <a:ext cx="339552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 презентации: Алгазина Наталья Викторовна, учитель начальных классов МБОУ Новоромановская СОШ, с.Новороманово, Калманского района Алтайского к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САЙТ: «Школа АБ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ttp://www.shkola-abv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685800" y="159300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3880" indent="-3538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нимательно прочитай зад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ыполни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очитай предлагаемые отве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ыбери правильный ответ, нажми на кнопку       возле него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Если задание выполнено правильно- звучат  аплодисмент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Управляющая кнопка: сведения 7">
            <a:hlinkClick r:id="rId2"/>
          </p:cNvPr>
          <p:cNvSpPr/>
          <p:nvPr/>
        </p:nvSpPr>
        <p:spPr>
          <a:xfrm>
            <a:off x="3276720" y="3886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186" h="21600">
                <a:moveTo>
                  <a:pt x="1259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186" h="21600">
                <a:moveTo>
                  <a:pt x="10017" y="8224"/>
                </a:moveTo>
                <a:lnTo>
                  <a:pt x="13881" y="8224"/>
                </a:lnTo>
                <a:lnTo>
                  <a:pt x="13881" y="15221"/>
                </a:lnTo>
                <a:lnTo>
                  <a:pt x="15169" y="15221"/>
                </a:lnTo>
                <a:lnTo>
                  <a:pt x="15169" y="16144"/>
                </a:lnTo>
                <a:lnTo>
                  <a:pt x="10017" y="16144"/>
                </a:lnTo>
                <a:lnTo>
                  <a:pt x="10017" y="15221"/>
                </a:lnTo>
                <a:lnTo>
                  <a:pt x="11305" y="15221"/>
                </a:lnTo>
                <a:lnTo>
                  <a:pt x="11305" y="9129"/>
                </a:lnTo>
                <a:lnTo>
                  <a:pt x="10017" y="9129"/>
                </a:lnTo>
                <a:close/>
              </a:path>
            </a:pathLst>
          </a:cu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мама\Мои рисунки\люди и профессии анимации\baby20.gif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Прямоугольник 10"/>
          <p:cNvGrpSpPr/>
          <p:nvPr/>
        </p:nvGrpSpPr>
        <p:grpSpPr>
          <a:xfrm>
            <a:off x="615960" y="182520"/>
            <a:ext cx="8369280" cy="1335240"/>
            <a:chOff x="615960" y="182520"/>
            <a:chExt cx="8369280" cy="1335240"/>
          </a:xfrm>
        </p:grpSpPr>
        <p:pic>
          <p:nvPicPr>
            <p:cNvPr id="53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15960" y="182520"/>
              <a:ext cx="836928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38080" y="304920"/>
              <a:ext cx="79250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Какое из следующих выражений соответствует заданию?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Прямоугольник 11"/>
          <p:cNvSpPr/>
          <p:nvPr/>
        </p:nvSpPr>
        <p:spPr>
          <a:xfrm>
            <a:off x="838080" y="18288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частному чисел 126 и 3 прибавить произведение чисел 17 и 4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1295280" y="3581280"/>
            <a:ext cx="34290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6 – 3) + 17 </a:t>
            </a:r>
            <a:r>
              <a:rPr b="1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1299600" y="4419720"/>
            <a:ext cx="34088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26 : 3 + (17 – 4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1295280" y="5181480"/>
            <a:ext cx="33530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26 </a:t>
            </a:r>
            <a:r>
              <a:rPr b="1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3 + 17 : 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5"/>
          <p:cNvSpPr/>
          <p:nvPr/>
        </p:nvSpPr>
        <p:spPr>
          <a:xfrm>
            <a:off x="1295280" y="5943600"/>
            <a:ext cx="33530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26 : 3 + 17 </a:t>
            </a:r>
            <a:r>
              <a:rPr b="1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сведения 18">
            <a:hlinkClick r:id="rId3"/>
          </p:cNvPr>
          <p:cNvSpPr/>
          <p:nvPr/>
        </p:nvSpPr>
        <p:spPr>
          <a:xfrm>
            <a:off x="556272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правляющая кнопка: сведения 22">
            <a:hlinkClick r:id="rId4"/>
          </p:cNvPr>
          <p:cNvSpPr/>
          <p:nvPr/>
        </p:nvSpPr>
        <p:spPr>
          <a:xfrm>
            <a:off x="5562720" y="51814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3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13">
                <a:moveTo>
                  <a:pt x="10800" y="4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13">
                <a:moveTo>
                  <a:pt x="8224" y="8230"/>
                </a:moveTo>
                <a:lnTo>
                  <a:pt x="12088" y="8230"/>
                </a:lnTo>
                <a:lnTo>
                  <a:pt x="12088" y="15228"/>
                </a:lnTo>
                <a:lnTo>
                  <a:pt x="13376" y="15228"/>
                </a:lnTo>
                <a:lnTo>
                  <a:pt x="13376" y="16150"/>
                </a:lnTo>
                <a:lnTo>
                  <a:pt x="8224" y="16150"/>
                </a:lnTo>
                <a:lnTo>
                  <a:pt x="8224" y="15228"/>
                </a:lnTo>
                <a:lnTo>
                  <a:pt x="9512" y="15228"/>
                </a:lnTo>
                <a:lnTo>
                  <a:pt x="9512" y="9135"/>
                </a:lnTo>
                <a:lnTo>
                  <a:pt x="8224" y="9135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Управляющая кнопка: сведения 25">
            <a:hlinkClick r:id="rId5"/>
          </p:cNvPr>
          <p:cNvSpPr/>
          <p:nvPr/>
        </p:nvSpPr>
        <p:spPr>
          <a:xfrm>
            <a:off x="5562720" y="44197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сведения 26">
            <a:hlinkClick r:id="rId6"/>
          </p:cNvPr>
          <p:cNvSpPr/>
          <p:nvPr/>
        </p:nvSpPr>
        <p:spPr>
          <a:xfrm>
            <a:off x="5562720" y="3581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3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13">
                <a:moveTo>
                  <a:pt x="10800" y="4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13">
                <a:moveTo>
                  <a:pt x="8224" y="8230"/>
                </a:moveTo>
                <a:lnTo>
                  <a:pt x="12088" y="8230"/>
                </a:lnTo>
                <a:lnTo>
                  <a:pt x="12088" y="15228"/>
                </a:lnTo>
                <a:lnTo>
                  <a:pt x="13376" y="15228"/>
                </a:lnTo>
                <a:lnTo>
                  <a:pt x="13376" y="16150"/>
                </a:lnTo>
                <a:lnTo>
                  <a:pt x="8224" y="16150"/>
                </a:lnTo>
                <a:lnTo>
                  <a:pt x="8224" y="15228"/>
                </a:lnTo>
                <a:lnTo>
                  <a:pt x="9512" y="15228"/>
                </a:lnTo>
                <a:lnTo>
                  <a:pt x="9512" y="9135"/>
                </a:lnTo>
                <a:lnTo>
                  <a:pt x="8224" y="9135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1447920" y="-160920"/>
            <a:ext cx="739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ыбери  правильное название фигу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0"/>
          <p:cNvSpPr/>
          <p:nvPr/>
        </p:nvSpPr>
        <p:spPr>
          <a:xfrm>
            <a:off x="2209680" y="1485360"/>
            <a:ext cx="2819520" cy="6094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узел 11"/>
          <p:cNvSpPr/>
          <p:nvPr/>
        </p:nvSpPr>
        <p:spPr>
          <a:xfrm>
            <a:off x="2209680" y="1447920"/>
            <a:ext cx="76320" cy="75960"/>
          </a:xfrm>
          <a:prstGeom prst="flowChartConnector">
            <a:avLst/>
          </a:prstGeom>
          <a:solidFill>
            <a:srgbClr val="00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узел 12"/>
          <p:cNvSpPr/>
          <p:nvPr/>
        </p:nvSpPr>
        <p:spPr>
          <a:xfrm>
            <a:off x="4952880" y="2057400"/>
            <a:ext cx="76320" cy="76320"/>
          </a:xfrm>
          <a:prstGeom prst="flowChartConnector">
            <a:avLst/>
          </a:prstGeom>
          <a:solidFill>
            <a:srgbClr val="00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6019920" y="4572000"/>
            <a:ext cx="1690560" cy="5814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а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181480" y="2514600"/>
            <a:ext cx="1447920" cy="5814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2819520" y="4572000"/>
            <a:ext cx="1595160" cy="5814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1376640" y="2590920"/>
            <a:ext cx="1416600" cy="5814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правляющая кнопка: сведения 19">
            <a:hlinkClick r:id="rId2"/>
          </p:cNvPr>
          <p:cNvSpPr/>
          <p:nvPr/>
        </p:nvSpPr>
        <p:spPr>
          <a:xfrm>
            <a:off x="6553080" y="54100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правляющая кнопка: сведения 21">
            <a:hlinkClick r:id="rId3"/>
          </p:cNvPr>
          <p:cNvSpPr/>
          <p:nvPr/>
        </p:nvSpPr>
        <p:spPr>
          <a:xfrm>
            <a:off x="3352680" y="54100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правляющая кнопка: сведения 23">
            <a:hlinkClick r:id="rId4"/>
          </p:cNvPr>
          <p:cNvSpPr/>
          <p:nvPr/>
        </p:nvSpPr>
        <p:spPr>
          <a:xfrm>
            <a:off x="1828800" y="33526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3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13">
                <a:moveTo>
                  <a:pt x="10800" y="4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13">
                <a:moveTo>
                  <a:pt x="8224" y="8230"/>
                </a:moveTo>
                <a:lnTo>
                  <a:pt x="12088" y="8230"/>
                </a:lnTo>
                <a:lnTo>
                  <a:pt x="12088" y="15228"/>
                </a:lnTo>
                <a:lnTo>
                  <a:pt x="13376" y="15228"/>
                </a:lnTo>
                <a:lnTo>
                  <a:pt x="13376" y="16150"/>
                </a:lnTo>
                <a:lnTo>
                  <a:pt x="8224" y="16150"/>
                </a:lnTo>
                <a:lnTo>
                  <a:pt x="8224" y="15228"/>
                </a:lnTo>
                <a:lnTo>
                  <a:pt x="9512" y="15228"/>
                </a:lnTo>
                <a:lnTo>
                  <a:pt x="9512" y="9135"/>
                </a:lnTo>
                <a:lnTo>
                  <a:pt x="8224" y="9135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Управляющая кнопка: сведения 24">
            <a:hlinkClick r:id="rId5"/>
          </p:cNvPr>
          <p:cNvSpPr/>
          <p:nvPr/>
        </p:nvSpPr>
        <p:spPr>
          <a:xfrm>
            <a:off x="5715000" y="32767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2" descr=""/>
          <p:cNvPicPr/>
          <p:nvPr/>
        </p:nvPicPr>
        <p:blipFill>
          <a:blip r:embed="rId2"/>
          <a:stretch/>
        </p:blipFill>
        <p:spPr>
          <a:xfrm>
            <a:off x="749160" y="96840"/>
            <a:ext cx="8261640" cy="2513160"/>
          </a:xfrm>
          <a:prstGeom prst="rect">
            <a:avLst/>
          </a:prstGeom>
          <a:ln w="0">
            <a:noFill/>
          </a:ln>
        </p:spPr>
      </p:pic>
      <p:grpSp>
        <p:nvGrpSpPr>
          <p:cNvPr id="77" name="TextBox 4"/>
          <p:cNvGrpSpPr/>
          <p:nvPr/>
        </p:nvGrpSpPr>
        <p:grpSpPr>
          <a:xfrm>
            <a:off x="1938240" y="2755800"/>
            <a:ext cx="2919600" cy="920880"/>
            <a:chOff x="1938240" y="2755800"/>
            <a:chExt cx="2919600" cy="920880"/>
          </a:xfrm>
        </p:grpSpPr>
        <p:pic>
          <p:nvPicPr>
            <p:cNvPr id="78" name="TextBox 4" descr=""/>
            <p:cNvPicPr/>
            <p:nvPr/>
          </p:nvPicPr>
          <p:blipFill>
            <a:blip r:embed="rId3"/>
            <a:stretch/>
          </p:blipFill>
          <p:spPr>
            <a:xfrm>
              <a:off x="1938240" y="2755800"/>
              <a:ext cx="29196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209680" y="2895480"/>
              <a:ext cx="241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57 рубле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TextBox 5"/>
          <p:cNvGrpSpPr/>
          <p:nvPr/>
        </p:nvGrpSpPr>
        <p:grpSpPr>
          <a:xfrm>
            <a:off x="5900760" y="5041800"/>
            <a:ext cx="2676600" cy="920880"/>
            <a:chOff x="5900760" y="5041800"/>
            <a:chExt cx="2676600" cy="920880"/>
          </a:xfrm>
        </p:grpSpPr>
        <p:pic>
          <p:nvPicPr>
            <p:cNvPr id="81" name="TextBox 5" descr=""/>
            <p:cNvPicPr/>
            <p:nvPr/>
          </p:nvPicPr>
          <p:blipFill>
            <a:blip r:embed="rId4"/>
            <a:stretch/>
          </p:blipFill>
          <p:spPr>
            <a:xfrm>
              <a:off x="5900760" y="5041800"/>
              <a:ext cx="26766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170760" y="5181480"/>
              <a:ext cx="216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54 рубл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TextBox 6"/>
          <p:cNvGrpSpPr/>
          <p:nvPr/>
        </p:nvGrpSpPr>
        <p:grpSpPr>
          <a:xfrm>
            <a:off x="5138640" y="2755800"/>
            <a:ext cx="2670120" cy="920880"/>
            <a:chOff x="5138640" y="2755800"/>
            <a:chExt cx="2670120" cy="920880"/>
          </a:xfrm>
        </p:grpSpPr>
        <p:pic>
          <p:nvPicPr>
            <p:cNvPr id="84" name="TextBox 6" descr=""/>
            <p:cNvPicPr/>
            <p:nvPr/>
          </p:nvPicPr>
          <p:blipFill>
            <a:blip r:embed="rId5"/>
            <a:stretch/>
          </p:blipFill>
          <p:spPr>
            <a:xfrm>
              <a:off x="5138640" y="2755800"/>
              <a:ext cx="26701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408640" y="2895480"/>
              <a:ext cx="21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21 рубл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TextBox 7"/>
          <p:cNvGrpSpPr/>
          <p:nvPr/>
        </p:nvGrpSpPr>
        <p:grpSpPr>
          <a:xfrm>
            <a:off x="1249200" y="5041800"/>
            <a:ext cx="2683080" cy="920880"/>
            <a:chOff x="1249200" y="5041800"/>
            <a:chExt cx="2683080" cy="920880"/>
          </a:xfrm>
        </p:grpSpPr>
        <p:pic>
          <p:nvPicPr>
            <p:cNvPr id="87" name="TextBox 7" descr=""/>
            <p:cNvPicPr/>
            <p:nvPr/>
          </p:nvPicPr>
          <p:blipFill>
            <a:blip r:embed="rId6"/>
            <a:stretch/>
          </p:blipFill>
          <p:spPr>
            <a:xfrm>
              <a:off x="1249200" y="5041800"/>
              <a:ext cx="2683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522800" y="5181480"/>
              <a:ext cx="216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24 рубл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Управляющая кнопка: сведения 8">
            <a:hlinkClick r:id="rId7"/>
          </p:cNvPr>
          <p:cNvSpPr/>
          <p:nvPr/>
        </p:nvSpPr>
        <p:spPr>
          <a:xfrm>
            <a:off x="22860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правляющая кнопка: сведения 9">
            <a:hlinkClick r:id="rId8"/>
          </p:cNvPr>
          <p:cNvSpPr/>
          <p:nvPr/>
        </p:nvSpPr>
        <p:spPr>
          <a:xfrm>
            <a:off x="3200400" y="3886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правляющая кнопка: сведения 10">
            <a:hlinkClick r:id="rId9"/>
          </p:cNvPr>
          <p:cNvSpPr/>
          <p:nvPr/>
        </p:nvSpPr>
        <p:spPr>
          <a:xfrm>
            <a:off x="6172200" y="3886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правляющая кнопка: сведения 11">
            <a:hlinkClick r:id="rId10"/>
          </p:cNvPr>
          <p:cNvSpPr/>
          <p:nvPr/>
        </p:nvSpPr>
        <p:spPr>
          <a:xfrm>
            <a:off x="693432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1"/>
          <p:cNvGrpSpPr/>
          <p:nvPr/>
        </p:nvGrpSpPr>
        <p:grpSpPr>
          <a:xfrm>
            <a:off x="5095800" y="4157640"/>
            <a:ext cx="2311560" cy="1335240"/>
            <a:chOff x="5095800" y="4157640"/>
            <a:chExt cx="2311560" cy="1335240"/>
          </a:xfrm>
        </p:grpSpPr>
        <p:pic>
          <p:nvPicPr>
            <p:cNvPr id="94" name="Rectangle 1" descr=""/>
            <p:cNvPicPr/>
            <p:nvPr/>
          </p:nvPicPr>
          <p:blipFill>
            <a:blip r:embed="rId2"/>
            <a:stretch/>
          </p:blipFill>
          <p:spPr>
            <a:xfrm>
              <a:off x="5095800" y="4157640"/>
              <a:ext cx="231156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486400" y="4195440"/>
              <a:ext cx="1676520" cy="12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4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Прямоугольник 2"/>
          <p:cNvSpPr/>
          <p:nvPr/>
        </p:nvSpPr>
        <p:spPr>
          <a:xfrm>
            <a:off x="936000" y="228600"/>
            <a:ext cx="7738200" cy="703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Times New Roman"/>
              </a:rPr>
              <a:t>Укажи  самое большое чис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Rectangle 1"/>
          <p:cNvGrpSpPr/>
          <p:nvPr/>
        </p:nvGrpSpPr>
        <p:grpSpPr>
          <a:xfrm>
            <a:off x="6467400" y="1182600"/>
            <a:ext cx="2311560" cy="1341360"/>
            <a:chOff x="6467400" y="1182600"/>
            <a:chExt cx="2311560" cy="1341360"/>
          </a:xfrm>
        </p:grpSpPr>
        <p:pic>
          <p:nvPicPr>
            <p:cNvPr id="98" name="Rectangle 1" descr=""/>
            <p:cNvPicPr/>
            <p:nvPr/>
          </p:nvPicPr>
          <p:blipFill>
            <a:blip r:embed="rId3"/>
            <a:stretch/>
          </p:blipFill>
          <p:spPr>
            <a:xfrm>
              <a:off x="6467400" y="1182600"/>
              <a:ext cx="23115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58000" y="1223640"/>
              <a:ext cx="1676520" cy="12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7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tangle 1"/>
          <p:cNvGrpSpPr/>
          <p:nvPr/>
        </p:nvGrpSpPr>
        <p:grpSpPr>
          <a:xfrm>
            <a:off x="2243160" y="4157640"/>
            <a:ext cx="2305080" cy="1335240"/>
            <a:chOff x="2243160" y="4157640"/>
            <a:chExt cx="2305080" cy="1335240"/>
          </a:xfrm>
        </p:grpSpPr>
        <p:pic>
          <p:nvPicPr>
            <p:cNvPr id="101" name="Rectangle 1" descr=""/>
            <p:cNvPicPr/>
            <p:nvPr/>
          </p:nvPicPr>
          <p:blipFill>
            <a:blip r:embed="rId4"/>
            <a:stretch/>
          </p:blipFill>
          <p:spPr>
            <a:xfrm>
              <a:off x="2243160" y="4157640"/>
              <a:ext cx="230508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666880" y="4195440"/>
              <a:ext cx="1676520" cy="12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7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Rectangle 1"/>
          <p:cNvGrpSpPr/>
          <p:nvPr/>
        </p:nvGrpSpPr>
        <p:grpSpPr>
          <a:xfrm>
            <a:off x="907920" y="1182600"/>
            <a:ext cx="2305080" cy="1341360"/>
            <a:chOff x="907920" y="1182600"/>
            <a:chExt cx="2305080" cy="1341360"/>
          </a:xfrm>
        </p:grpSpPr>
        <p:pic>
          <p:nvPicPr>
            <p:cNvPr id="104" name="Rectangle 1" descr=""/>
            <p:cNvPicPr/>
            <p:nvPr/>
          </p:nvPicPr>
          <p:blipFill>
            <a:blip r:embed="rId5"/>
            <a:stretch/>
          </p:blipFill>
          <p:spPr>
            <a:xfrm>
              <a:off x="907920" y="1182600"/>
              <a:ext cx="23050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295280" y="1223640"/>
              <a:ext cx="1676520" cy="12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3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Управляющая кнопка: сведения 9">
            <a:hlinkClick r:id="rId6"/>
          </p:cNvPr>
          <p:cNvSpPr/>
          <p:nvPr/>
        </p:nvSpPr>
        <p:spPr>
          <a:xfrm>
            <a:off x="6095880" y="5867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75db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сведения 10">
            <a:hlinkClick r:id="rId7"/>
          </p:cNvPr>
          <p:cNvSpPr/>
          <p:nvPr/>
        </p:nvSpPr>
        <p:spPr>
          <a:xfrm>
            <a:off x="3200400" y="5867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3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13">
                <a:moveTo>
                  <a:pt x="10800" y="4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13">
                <a:moveTo>
                  <a:pt x="8224" y="8230"/>
                </a:moveTo>
                <a:lnTo>
                  <a:pt x="12088" y="8230"/>
                </a:lnTo>
                <a:lnTo>
                  <a:pt x="12088" y="15228"/>
                </a:lnTo>
                <a:lnTo>
                  <a:pt x="13376" y="15228"/>
                </a:lnTo>
                <a:lnTo>
                  <a:pt x="13376" y="16150"/>
                </a:lnTo>
                <a:lnTo>
                  <a:pt x="8224" y="16150"/>
                </a:lnTo>
                <a:lnTo>
                  <a:pt x="8224" y="15228"/>
                </a:lnTo>
                <a:lnTo>
                  <a:pt x="9512" y="15228"/>
                </a:lnTo>
                <a:lnTo>
                  <a:pt x="9512" y="9135"/>
                </a:lnTo>
                <a:lnTo>
                  <a:pt x="8224" y="9135"/>
                </a:lnTo>
                <a:close/>
              </a:path>
            </a:pathLst>
          </a:custGeom>
          <a:solidFill>
            <a:srgbClr val="75db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сведения 11">
            <a:hlinkClick r:id="rId8"/>
          </p:cNvPr>
          <p:cNvSpPr/>
          <p:nvPr/>
        </p:nvSpPr>
        <p:spPr>
          <a:xfrm>
            <a:off x="7467480" y="28954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75db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сведения 12">
            <a:hlinkClick r:id="rId9"/>
          </p:cNvPr>
          <p:cNvSpPr/>
          <p:nvPr/>
        </p:nvSpPr>
        <p:spPr>
          <a:xfrm>
            <a:off x="1828800" y="28954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3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13">
                <a:moveTo>
                  <a:pt x="10800" y="4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13">
                <a:moveTo>
                  <a:pt x="8224" y="8230"/>
                </a:moveTo>
                <a:lnTo>
                  <a:pt x="12088" y="8230"/>
                </a:lnTo>
                <a:lnTo>
                  <a:pt x="12088" y="15228"/>
                </a:lnTo>
                <a:lnTo>
                  <a:pt x="13376" y="15228"/>
                </a:lnTo>
                <a:lnTo>
                  <a:pt x="13376" y="16150"/>
                </a:lnTo>
                <a:lnTo>
                  <a:pt x="8224" y="16150"/>
                </a:lnTo>
                <a:lnTo>
                  <a:pt x="8224" y="15228"/>
                </a:lnTo>
                <a:lnTo>
                  <a:pt x="9512" y="15228"/>
                </a:lnTo>
                <a:lnTo>
                  <a:pt x="9512" y="9135"/>
                </a:lnTo>
                <a:lnTo>
                  <a:pt x="8224" y="9135"/>
                </a:lnTo>
                <a:close/>
              </a:path>
            </a:pathLst>
          </a:custGeom>
          <a:solidFill>
            <a:srgbClr val="75db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3"/>
          <p:cNvSpPr/>
          <p:nvPr/>
        </p:nvSpPr>
        <p:spPr>
          <a:xfrm>
            <a:off x="1066680" y="228600"/>
            <a:ext cx="7467840" cy="19220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ычисли и выбери 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– 80 + 2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1226520" y="2666880"/>
            <a:ext cx="1209600" cy="916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226520" y="4343400"/>
            <a:ext cx="1209600" cy="916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798520" y="2666880"/>
            <a:ext cx="1209600" cy="916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798520" y="4343400"/>
            <a:ext cx="1209600" cy="916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Управляющая кнопка: сведения 9">
            <a:hlinkClick r:id="rId2"/>
          </p:cNvPr>
          <p:cNvSpPr/>
          <p:nvPr/>
        </p:nvSpPr>
        <p:spPr>
          <a:xfrm>
            <a:off x="2666880" y="44956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Управляющая кнопка: сведения 10">
            <a:hlinkClick r:id="rId3"/>
          </p:cNvPr>
          <p:cNvSpPr/>
          <p:nvPr/>
        </p:nvSpPr>
        <p:spPr>
          <a:xfrm>
            <a:off x="7315200" y="44956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3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13">
                <a:moveTo>
                  <a:pt x="10800" y="4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13">
                <a:moveTo>
                  <a:pt x="8224" y="8230"/>
                </a:moveTo>
                <a:lnTo>
                  <a:pt x="12088" y="8230"/>
                </a:lnTo>
                <a:lnTo>
                  <a:pt x="12088" y="15228"/>
                </a:lnTo>
                <a:lnTo>
                  <a:pt x="13376" y="15228"/>
                </a:lnTo>
                <a:lnTo>
                  <a:pt x="13376" y="16150"/>
                </a:lnTo>
                <a:lnTo>
                  <a:pt x="8224" y="16150"/>
                </a:lnTo>
                <a:lnTo>
                  <a:pt x="8224" y="15228"/>
                </a:lnTo>
                <a:lnTo>
                  <a:pt x="9512" y="15228"/>
                </a:lnTo>
                <a:lnTo>
                  <a:pt x="9512" y="9135"/>
                </a:lnTo>
                <a:lnTo>
                  <a:pt x="8224" y="9135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Управляющая кнопка: сведения 11">
            <a:hlinkClick r:id="rId4"/>
          </p:cNvPr>
          <p:cNvSpPr/>
          <p:nvPr/>
        </p:nvSpPr>
        <p:spPr>
          <a:xfrm>
            <a:off x="7315200" y="2819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Управляющая кнопка: сведения 12">
            <a:hlinkClick r:id="rId5"/>
          </p:cNvPr>
          <p:cNvSpPr/>
          <p:nvPr/>
        </p:nvSpPr>
        <p:spPr>
          <a:xfrm>
            <a:off x="2666880" y="2819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13" h="21600">
                <a:moveTo>
                  <a:pt x="1080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13" h="21600">
                <a:moveTo>
                  <a:pt x="8230" y="8224"/>
                </a:moveTo>
                <a:lnTo>
                  <a:pt x="12095" y="8224"/>
                </a:lnTo>
                <a:lnTo>
                  <a:pt x="12095" y="15221"/>
                </a:lnTo>
                <a:lnTo>
                  <a:pt x="13383" y="15221"/>
                </a:lnTo>
                <a:lnTo>
                  <a:pt x="13383" y="16144"/>
                </a:lnTo>
                <a:lnTo>
                  <a:pt x="8230" y="16144"/>
                </a:lnTo>
                <a:lnTo>
                  <a:pt x="8230" y="15221"/>
                </a:lnTo>
                <a:lnTo>
                  <a:pt x="9518" y="15221"/>
                </a:lnTo>
                <a:lnTo>
                  <a:pt x="9518" y="9129"/>
                </a:lnTo>
                <a:lnTo>
                  <a:pt x="8230" y="912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Rectangle 3"/>
          <p:cNvGrpSpPr/>
          <p:nvPr/>
        </p:nvGrpSpPr>
        <p:grpSpPr>
          <a:xfrm>
            <a:off x="1054080" y="5132520"/>
            <a:ext cx="4640400" cy="847440"/>
            <a:chOff x="1054080" y="5132520"/>
            <a:chExt cx="4640400" cy="847440"/>
          </a:xfrm>
        </p:grpSpPr>
        <p:pic>
          <p:nvPicPr>
            <p:cNvPr id="120" name="Rectangle 3" descr=""/>
            <p:cNvPicPr/>
            <p:nvPr/>
          </p:nvPicPr>
          <p:blipFill>
            <a:blip r:embed="rId2"/>
            <a:stretch/>
          </p:blipFill>
          <p:spPr>
            <a:xfrm>
              <a:off x="1054080" y="5132520"/>
              <a:ext cx="464040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295280" y="5259600"/>
              <a:ext cx="434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800 м = 1 к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Прямоугольник 9"/>
          <p:cNvGrpSpPr/>
          <p:nvPr/>
        </p:nvGrpSpPr>
        <p:grpSpPr>
          <a:xfrm>
            <a:off x="792000" y="85680"/>
            <a:ext cx="7797960" cy="2151000"/>
            <a:chOff x="792000" y="85680"/>
            <a:chExt cx="7797960" cy="2151000"/>
          </a:xfrm>
        </p:grpSpPr>
        <p:pic>
          <p:nvPicPr>
            <p:cNvPr id="123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792000" y="85680"/>
              <a:ext cx="779796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066680" y="228600"/>
              <a:ext cx="746784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Сравни и выбери ответ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en-US" sz="4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800 м  *  1 км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ectangle 3"/>
          <p:cNvGrpSpPr/>
          <p:nvPr/>
        </p:nvGrpSpPr>
        <p:grpSpPr>
          <a:xfrm>
            <a:off x="1054080" y="2693880"/>
            <a:ext cx="4565520" cy="847800"/>
            <a:chOff x="1054080" y="2693880"/>
            <a:chExt cx="4565520" cy="847800"/>
          </a:xfrm>
        </p:grpSpPr>
        <p:pic>
          <p:nvPicPr>
            <p:cNvPr id="126" name="Rectangle 3" descr=""/>
            <p:cNvPicPr/>
            <p:nvPr/>
          </p:nvPicPr>
          <p:blipFill>
            <a:blip r:embed="rId4"/>
            <a:stretch/>
          </p:blipFill>
          <p:spPr>
            <a:xfrm>
              <a:off x="1054080" y="2693880"/>
              <a:ext cx="45655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295280" y="2820960"/>
              <a:ext cx="42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800 м  &gt; 1 к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ectangle 3"/>
          <p:cNvGrpSpPr/>
          <p:nvPr/>
        </p:nvGrpSpPr>
        <p:grpSpPr>
          <a:xfrm>
            <a:off x="1054080" y="3913200"/>
            <a:ext cx="4640400" cy="847800"/>
            <a:chOff x="1054080" y="3913200"/>
            <a:chExt cx="4640400" cy="847800"/>
          </a:xfrm>
        </p:grpSpPr>
        <p:pic>
          <p:nvPicPr>
            <p:cNvPr id="129" name="Rectangle 3" descr=""/>
            <p:cNvPicPr/>
            <p:nvPr/>
          </p:nvPicPr>
          <p:blipFill>
            <a:blip r:embed="rId5"/>
            <a:stretch/>
          </p:blipFill>
          <p:spPr>
            <a:xfrm>
              <a:off x="1054080" y="3913200"/>
              <a:ext cx="4640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295280" y="4040280"/>
              <a:ext cx="434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800 м &lt; 1 км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Управляющая кнопка: сведения 12">
            <a:hlinkClick r:id="rId6"/>
          </p:cNvPr>
          <p:cNvSpPr/>
          <p:nvPr/>
        </p:nvSpPr>
        <p:spPr>
          <a:xfrm>
            <a:off x="6553080" y="41148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13" h="21600">
                <a:moveTo>
                  <a:pt x="1080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13" h="21600">
                <a:moveTo>
                  <a:pt x="8230" y="8224"/>
                </a:moveTo>
                <a:lnTo>
                  <a:pt x="12095" y="8224"/>
                </a:lnTo>
                <a:lnTo>
                  <a:pt x="12095" y="15221"/>
                </a:lnTo>
                <a:lnTo>
                  <a:pt x="13383" y="15221"/>
                </a:lnTo>
                <a:lnTo>
                  <a:pt x="13383" y="16144"/>
                </a:lnTo>
                <a:lnTo>
                  <a:pt x="8230" y="16144"/>
                </a:lnTo>
                <a:lnTo>
                  <a:pt x="8230" y="15221"/>
                </a:lnTo>
                <a:lnTo>
                  <a:pt x="9518" y="15221"/>
                </a:lnTo>
                <a:lnTo>
                  <a:pt x="9518" y="9129"/>
                </a:lnTo>
                <a:lnTo>
                  <a:pt x="8230" y="9129"/>
                </a:lnTo>
                <a:close/>
              </a:path>
            </a:pathLst>
          </a:custGeom>
          <a:solidFill>
            <a:srgbClr val="75db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Управляющая кнопка: сведения 13">
            <a:hlinkClick r:id="rId7"/>
          </p:cNvPr>
          <p:cNvSpPr/>
          <p:nvPr/>
        </p:nvSpPr>
        <p:spPr>
          <a:xfrm>
            <a:off x="6553080" y="2819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13" h="21600">
                <a:moveTo>
                  <a:pt x="1080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13" h="21600">
                <a:moveTo>
                  <a:pt x="8230" y="8224"/>
                </a:moveTo>
                <a:lnTo>
                  <a:pt x="12095" y="8224"/>
                </a:lnTo>
                <a:lnTo>
                  <a:pt x="12095" y="15221"/>
                </a:lnTo>
                <a:lnTo>
                  <a:pt x="13383" y="15221"/>
                </a:lnTo>
                <a:lnTo>
                  <a:pt x="13383" y="16144"/>
                </a:lnTo>
                <a:lnTo>
                  <a:pt x="8230" y="16144"/>
                </a:lnTo>
                <a:lnTo>
                  <a:pt x="8230" y="15221"/>
                </a:lnTo>
                <a:lnTo>
                  <a:pt x="9518" y="15221"/>
                </a:lnTo>
                <a:lnTo>
                  <a:pt x="9518" y="9129"/>
                </a:lnTo>
                <a:lnTo>
                  <a:pt x="8230" y="9129"/>
                </a:lnTo>
                <a:close/>
              </a:path>
            </a:pathLst>
          </a:custGeom>
          <a:solidFill>
            <a:srgbClr val="75db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сведения 14">
            <a:hlinkClick r:id="rId8"/>
          </p:cNvPr>
          <p:cNvSpPr/>
          <p:nvPr/>
        </p:nvSpPr>
        <p:spPr>
          <a:xfrm>
            <a:off x="6553080" y="52578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13" h="21600">
                <a:moveTo>
                  <a:pt x="1080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13" h="21600">
                <a:moveTo>
                  <a:pt x="8230" y="8224"/>
                </a:moveTo>
                <a:lnTo>
                  <a:pt x="12095" y="8224"/>
                </a:lnTo>
                <a:lnTo>
                  <a:pt x="12095" y="15221"/>
                </a:lnTo>
                <a:lnTo>
                  <a:pt x="13383" y="15221"/>
                </a:lnTo>
                <a:lnTo>
                  <a:pt x="13383" y="16144"/>
                </a:lnTo>
                <a:lnTo>
                  <a:pt x="8230" y="16144"/>
                </a:lnTo>
                <a:lnTo>
                  <a:pt x="8230" y="15221"/>
                </a:lnTo>
                <a:lnTo>
                  <a:pt x="9518" y="15221"/>
                </a:lnTo>
                <a:lnTo>
                  <a:pt x="9518" y="9129"/>
                </a:lnTo>
                <a:lnTo>
                  <a:pt x="8230" y="9129"/>
                </a:lnTo>
                <a:close/>
              </a:path>
            </a:pathLst>
          </a:custGeom>
          <a:solidFill>
            <a:srgbClr val="75db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22" descr="часы.png"/>
          <p:cNvPicPr/>
          <p:nvPr/>
        </p:nvPicPr>
        <p:blipFill>
          <a:blip r:embed="rId2"/>
          <a:stretch/>
        </p:blipFill>
        <p:spPr>
          <a:xfrm>
            <a:off x="838080" y="12193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135" name="Oval 3"/>
          <p:cNvSpPr/>
          <p:nvPr/>
        </p:nvSpPr>
        <p:spPr>
          <a:xfrm>
            <a:off x="609480" y="1009800"/>
            <a:ext cx="3672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914400" y="-19296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ыбери на каком рисунке стрелки часов образуют прямой угол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3" descr="часы.png"/>
          <p:cNvPicPr/>
          <p:nvPr/>
        </p:nvPicPr>
        <p:blipFill>
          <a:blip r:embed="rId3"/>
          <a:stretch/>
        </p:blipFill>
        <p:spPr>
          <a:xfrm>
            <a:off x="5791320" y="1143000"/>
            <a:ext cx="2895480" cy="28195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4" descr="часы.png"/>
          <p:cNvPicPr/>
          <p:nvPr/>
        </p:nvPicPr>
        <p:blipFill>
          <a:blip r:embed="rId4"/>
          <a:stretch/>
        </p:blipFill>
        <p:spPr>
          <a:xfrm>
            <a:off x="3352680" y="2895480"/>
            <a:ext cx="2876760" cy="28195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5" descr="стрелки.png"/>
          <p:cNvPicPr/>
          <p:nvPr/>
        </p:nvPicPr>
        <p:blipFill>
          <a:blip r:embed="rId5"/>
          <a:stretch/>
        </p:blipFill>
        <p:spPr>
          <a:xfrm rot="17581800">
            <a:off x="1759320" y="2002680"/>
            <a:ext cx="1279440" cy="3636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6" descr="стрелки.png"/>
          <p:cNvPicPr/>
          <p:nvPr/>
        </p:nvPicPr>
        <p:blipFill>
          <a:blip r:embed="rId6"/>
          <a:stretch/>
        </p:blipFill>
        <p:spPr>
          <a:xfrm>
            <a:off x="7086600" y="1371600"/>
            <a:ext cx="363600" cy="1279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7" descr="стрелки.png"/>
          <p:cNvPicPr/>
          <p:nvPr/>
        </p:nvPicPr>
        <p:blipFill>
          <a:blip r:embed="rId7"/>
          <a:stretch/>
        </p:blipFill>
        <p:spPr>
          <a:xfrm rot="13303200">
            <a:off x="3768480" y="3806280"/>
            <a:ext cx="1276200" cy="3632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8" descr="стрелки.png"/>
          <p:cNvPicPr/>
          <p:nvPr/>
        </p:nvPicPr>
        <p:blipFill>
          <a:blip r:embed="rId8"/>
          <a:stretch/>
        </p:blipFill>
        <p:spPr>
          <a:xfrm>
            <a:off x="2057400" y="2286000"/>
            <a:ext cx="1143000" cy="561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9" descr="стрелки.png"/>
          <p:cNvPicPr/>
          <p:nvPr/>
        </p:nvPicPr>
        <p:blipFill>
          <a:blip r:embed="rId9"/>
          <a:stretch/>
        </p:blipFill>
        <p:spPr>
          <a:xfrm>
            <a:off x="7086600" y="2286000"/>
            <a:ext cx="1143000" cy="561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0" descr="стрелки.png"/>
          <p:cNvPicPr/>
          <p:nvPr/>
        </p:nvPicPr>
        <p:blipFill>
          <a:blip r:embed="rId10"/>
          <a:stretch/>
        </p:blipFill>
        <p:spPr>
          <a:xfrm>
            <a:off x="4572000" y="4038480"/>
            <a:ext cx="1143000" cy="5619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2"/>
          <p:cNvSpPr/>
          <p:nvPr/>
        </p:nvSpPr>
        <p:spPr>
          <a:xfrm>
            <a:off x="4499640" y="220968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3"/>
          <p:cNvSpPr/>
          <p:nvPr/>
        </p:nvSpPr>
        <p:spPr>
          <a:xfrm>
            <a:off x="689400" y="9144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8233920" y="838080"/>
            <a:ext cx="58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Управляющая кнопка: сведения 35">
            <a:hlinkClick r:id="rId11"/>
          </p:cNvPr>
          <p:cNvSpPr/>
          <p:nvPr/>
        </p:nvSpPr>
        <p:spPr>
          <a:xfrm>
            <a:off x="6934320" y="4343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Управляющая кнопка: сведения 36">
            <a:hlinkClick r:id="rId12"/>
          </p:cNvPr>
          <p:cNvSpPr/>
          <p:nvPr/>
        </p:nvSpPr>
        <p:spPr>
          <a:xfrm>
            <a:off x="1828800" y="42670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3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13">
                <a:moveTo>
                  <a:pt x="10800" y="4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13">
                <a:moveTo>
                  <a:pt x="8224" y="8230"/>
                </a:moveTo>
                <a:lnTo>
                  <a:pt x="12088" y="8230"/>
                </a:lnTo>
                <a:lnTo>
                  <a:pt x="12088" y="15228"/>
                </a:lnTo>
                <a:lnTo>
                  <a:pt x="13376" y="15228"/>
                </a:lnTo>
                <a:lnTo>
                  <a:pt x="13376" y="16150"/>
                </a:lnTo>
                <a:lnTo>
                  <a:pt x="8224" y="16150"/>
                </a:lnTo>
                <a:lnTo>
                  <a:pt x="8224" y="15228"/>
                </a:lnTo>
                <a:lnTo>
                  <a:pt x="9512" y="15228"/>
                </a:lnTo>
                <a:lnTo>
                  <a:pt x="9512" y="9135"/>
                </a:lnTo>
                <a:lnTo>
                  <a:pt x="8224" y="913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Управляющая кнопка: сведения 37">
            <a:hlinkClick r:id="rId13"/>
          </p:cNvPr>
          <p:cNvSpPr/>
          <p:nvPr/>
        </p:nvSpPr>
        <p:spPr>
          <a:xfrm>
            <a:off x="441972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Блок-схема: узел 18"/>
          <p:cNvSpPr/>
          <p:nvPr/>
        </p:nvSpPr>
        <p:spPr>
          <a:xfrm>
            <a:off x="838080" y="1219320"/>
            <a:ext cx="2819520" cy="2819160"/>
          </a:xfrm>
          <a:prstGeom prst="flowChartConnector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Блок-схема: узел 19"/>
          <p:cNvSpPr/>
          <p:nvPr/>
        </p:nvSpPr>
        <p:spPr>
          <a:xfrm>
            <a:off x="3352680" y="2895480"/>
            <a:ext cx="2819520" cy="2819520"/>
          </a:xfrm>
          <a:prstGeom prst="flowChartConnector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узел 20"/>
          <p:cNvSpPr/>
          <p:nvPr/>
        </p:nvSpPr>
        <p:spPr>
          <a:xfrm>
            <a:off x="5791320" y="1143000"/>
            <a:ext cx="2895480" cy="2819520"/>
          </a:xfrm>
          <a:prstGeom prst="flowChartConnector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len</dc:creator>
  <dc:description/>
  <dc:language>en-US</dc:language>
  <cp:lastModifiedBy>Boris</cp:lastModifiedBy>
  <dcterms:modified xsi:type="dcterms:W3CDTF">2013-06-14T15:15:29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